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36A-FF6D-43DD-BABE-7DCE0153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E09-674B-43E5-B3E9-95D7056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3AD-8B58-4655-B270-FEBA90D9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9C6-9953-4210-BC24-8465E483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D07-C4DB-41DE-A7D8-A037229C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E39-7996-4920-9C2A-2F421800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76F-74D9-425A-8B3C-B7A6B80F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134-0A60-45BC-BDB0-3F920A25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B10-F1EA-4585-BD18-5E874C2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EF8-486A-4DDF-8F51-13D1ED8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5BCE-3858-4A46-AE30-AC39BA9D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4BA-1FBF-4CDC-8BB3-279C83F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58F-C57A-468A-B51F-6B33B5D3A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88200">
            <a:off x="468000" y="907920"/>
            <a:ext cx="86756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risten ITC"/>
              </a:rPr>
              <a:t>Perrin Kathryn Louise O'Sullivan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50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is a PowerPoint abou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92360" y="333360"/>
            <a:ext cx="59040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bout Me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5472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Favour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urite colour: Lime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food: Chocolate and lollies and gr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Book: Diz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Movie: Stick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port: Soccer and Gymn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day of the week: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teacher: Mrs Hunter and Mrs Eva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ubject: science and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number: 5 o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4560" y="3068640"/>
            <a:ext cx="38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M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g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irthday: 4/12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Height: 139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Holidays I have been on: I went to Long island in the Whitsunday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03280" y="476280"/>
            <a:ext cx="6292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y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924280"/>
            <a:ext cx="7704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family there are 6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dad who works at a pai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mum who works as a kinder gym coach and a swimming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brothers: I have 3 brothers Zed (or as Ellen calls him M) who is 12; Talon who is 8; and Eli who is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0"/>
            <a:ext cx="6121440" cy="6697800"/>
          </a:xfrm>
          <a:custGeom>
            <a:avLst/>
            <a:gdLst>
              <a:gd name="textAreaLeft" fmla="*/ 1438560 w 6121440"/>
              <a:gd name="textAreaRight" fmla="*/ 4678560 w 6121440"/>
              <a:gd name="textAreaTop" fmla="*/ 787320 h 6697800"/>
              <a:gd name="textAreaBottom" fmla="*/ 4201200 h 6697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858800">
            <a:off x="2711880" y="1265040"/>
            <a:ext cx="2016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o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ay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Bo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Bro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aoi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o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23800">
            <a:off x="5283000" y="1555200"/>
            <a:ext cx="2305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Hannah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Hannah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hl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a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a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e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1820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8360" y="521820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8360" y="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89000"/>
            <a:ext cx="41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Frie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537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ry to any one who is not on this pag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4360" y="3213000"/>
            <a:ext cx="4319640" cy="31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333360"/>
            <a:ext cx="6489720" cy="23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ACHERS I HAVE HA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URING MY SCHOOL YEA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3284640"/>
            <a:ext cx="4824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p: Mrs Sutcli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one : Mrs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two : Mrs Tru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three : Mrs Hunter and Mrs Phil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four : Miss McKel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five : Miss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six : Mr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0920" y="260280"/>
            <a:ext cx="8137440" cy="381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ARTING GRA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4035600"/>
            <a:ext cx="15876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3:25:18Z</dcterms:created>
  <dc:creator>Admin</dc:creator>
  <dc:description/>
  <dc:language>en-US</dc:language>
  <cp:lastModifiedBy>Admin</cp:lastModifiedBy>
  <dcterms:modified xsi:type="dcterms:W3CDTF">2009-03-04T04:08:01Z</dcterms:modified>
  <cp:revision>7</cp:revision>
  <dc:subject/>
  <dc:title>Slide 1</dc:title>
</cp:coreProperties>
</file>